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6CA-023E-439A-BE4D-B33CABF3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B65-3F09-4AE8-9383-513FA93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097-F8A4-4BF4-876D-97F5C764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E11-64E0-4881-85DC-7AEA38F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AF7-E7A2-4607-B6C3-95E5349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BD5-34DD-402F-8A96-64AB1A6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53A-BDEA-4718-B04A-2CF10E35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F78-6411-4E06-8E32-20FBA1E5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928-F966-404C-A04F-D72A68EA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408-57DE-41FA-8399-2B87213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834-3EF6-4CE9-982E-8999ECE2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B59-780F-4E7A-BC14-E66C7E8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024-41DB-4CCA-89E4-9AF11B5100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Europeanization: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Redefining the Research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AMEP,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iday, February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olo Graz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enter for Comparative Political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partment of Institutional Analysi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ublic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occoni University, Mi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ization research has come of ag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gards not only policy analysis but also political and polity issu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is still quite ‘slippery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ual and empirical issues have to be dealt together in order to advance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nd European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mpirical and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and EU stu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ofunctionalist, (liberal) intergovernmentalist and supranational governance approaches: main focus is the E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looks primarely at the domestic leve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d domestic implementation of EU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bdisciplinary shift from international relations to comparative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‘promis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etter understanding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ional policy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nsformation of Europea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multilevel governance p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uropeanization can (and has) been connec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cy analysis: polic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polity building and national polity change analysis: institution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U and domestic politics: political actors’ strate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905120" y="1333512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uropeanization research pitf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ceptual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uzzy’ methodology and causa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ck of comparativ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tate of the ar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rich empirical or conceptual studies, but very limited cases of rich empirical AND conceptu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ceptu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9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convergence nor mere EU inte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op-down and bottom-up process (i.e. construction and diffu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cess is different from its (direct and indirect)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icy, polity and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as a case of region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Theoret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uropeanization is not a theory ye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it builds on both neofunctionalist and intergovernmental theoretical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ird step in regional integration theo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mpir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 for policy chang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.but domestic differential im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oodness of fit’: problem or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dogenous (mediating) factors do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sures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ational polities (state structur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litics (political parties, interest groups and social mov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thodolog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fferent nature of effects (direct and indirect): ex. cost containment and social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unterfactual reasoning (looking for alternative pressures for 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road and comparative research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bly cover both construction and diffusion phases of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8:43:19Z</dcterms:created>
  <dc:creator>Graziano Paolo</dc:creator>
  <dc:description/>
  <dc:language>en-US</dc:language>
  <cp:lastModifiedBy>Filippa Chatzistavrou</cp:lastModifiedBy>
  <cp:lastPrinted>2003-02-17T14:37:31Z</cp:lastPrinted>
  <dcterms:modified xsi:type="dcterms:W3CDTF">2009-01-27T12:39:37Z</dcterms:modified>
  <cp:revision>29</cp:revision>
  <dc:subject/>
  <dc:title>Comparative political economics</dc:title>
</cp:coreProperties>
</file>