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6A3D-388E-425F-94FA-996CECA60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9E17-4D03-44E8-BBCE-D04FAC212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CE1A-E44A-4280-A3EF-BEB30F14B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50AF-FEF7-4815-8054-D4180B45D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D0B1-13E2-4BB9-96D4-E1DF8ACE8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F2E2-174C-407E-BA29-EDAFE0993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B515-BBD8-444C-A92D-289305E97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2755-58F7-4667-8A2F-8882A13A6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AC34-8B22-4F98-A24A-A9F93FCEA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3AFB-E476-41CE-99F6-7BD5737D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F9C2-158D-4044-B31E-7E910C438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39F6-FB86-4C25-9BF8-C57CCF388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29C7B-B690-4837-88CE-1A125E4279F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Europeanization:</a:t>
            </a:r>
            <a:br>
              <a:rPr sz="4000"/>
            </a:b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Redefining the Research Agen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IAMEP, Ath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Friday, February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Paolo Grazia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Center for Comparative Political Re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Department of Institutional Analysis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Public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Bocconi University, Mila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peanization research has come of ag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regards not only policy analysis but also political and polity issue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it is still quite ‘slippery’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eptual and empirical issues have to be dealt together in order to advance fur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Europeanization and European stu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onceptual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Theoretical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Empirical and methodological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onclus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Europeanization and EU stud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neofunctionalist, (liberal) intergovernmentalist and supranational governance approaches: main focus is the EU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Europeanization looks primarely at the domestic level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and domestic implementation of EU poli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subdisciplinary shift from international relations to comparative poli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Europeanization research ‘promises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better understanding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U policy-ma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ational policy-ma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ransformation of European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U multilevel governance pat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Europeanization can (and has) been connected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U and domestic policy analysis: policy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U polity building and national polity change analysis: institutional se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U and domestic politics: political actors’ strateg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1905120" y="1333512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Europeanization research pitfa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onceptual conf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fuzzy’ methodology and causal lin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ack of comparative stu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state of the art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: rich empirical or conceptual studies, but very limited cases of rich empirical AND conceptual stu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Conceptual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09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europeanization is not convergence nor mere EU integr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top-down and bottom-up process (i.e. construction and diffus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rocess is different from its (direct and indirect) eff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olicy, polity and poli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Europeanization as a case of region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Theoretical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Europeanization is not a theory yet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...but it builds on both neofunctionalist and intergovernmental theoretical assump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Third step in regional integration theor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Empirical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ressure for policy chang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...but domestic differential impa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goodness of fit’: problem or solu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endogenous (mediating) factors do mat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ressures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national polities (state structure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politics (political parties, interest groups and social movemen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Methodological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different nature of effects (direct and indirect): ex. cost containment and social poli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ounterfactual reasoning (looking for alternative pressures for chang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broad and comparative research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ossibly cover both construction and diffusion phases of the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7T08:43:19Z</dcterms:created>
  <dc:creator>Graziano Paolo</dc:creator>
  <dc:description/>
  <dc:language>en-US</dc:language>
  <cp:lastModifiedBy>Filippa Chatzistavrou</cp:lastModifiedBy>
  <cp:lastPrinted>2003-02-17T14:37:31Z</cp:lastPrinted>
  <dcterms:modified xsi:type="dcterms:W3CDTF">2009-01-27T12:39:37Z</dcterms:modified>
  <cp:revision>29</cp:revision>
  <dc:subject/>
  <dc:title>Comparative political economics</dc:title>
</cp:coreProperties>
</file>