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BAC-5F84-4319-9149-6AE8893B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AA4-1741-43E3-8EE5-09E19E50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C22-E132-41FB-BDDD-B0988A46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FFF-801E-4CFB-926A-BEC257DE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6E8-1723-4E33-863D-63E14250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4A6-F785-4C0C-A76B-2AA3FD37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730-A77E-4FD0-8D9D-4D482E7D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FFE-6C48-4E78-8CDD-F7DAA3EB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9AB-FC9F-49D6-91E2-17E10871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F99-3C0F-413A-9DD5-F06DC33E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860-360C-4B8A-B811-EBAA2E0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37D-0ED3-49ED-9D48-5A3B6DCB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FF60-D3E8-44E6-BE09-EEA6C7DB55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Europeanization: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Redefining the Research 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AMEP, Ath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iday, February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olo Graz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enter for Comparative Politic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partment of Institutional Analysi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ublic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occoni University, Mil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ization research has come of ag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regards not only policy analysis but also political and polity issu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is still quite ‘slippery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ual and empirical issues have to be dealt together in order to advance fur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eanization and European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ceptu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oret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mpirical and methodolog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uropeanization and EU stu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ofunctionalist, (liberal) intergovernmentalist and supranational governance approaches: main focus is the EU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uropeanization looks primarely at the domestic level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nd domestic implementation of EU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ubdisciplinary shift from international relations to comparative 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uropeanization research ‘promise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better understanding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policy-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ational policy-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nsformation of Europea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multilevel governance p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uropeanization can (and has) been connect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and domestic policy analysis: polic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polity building and national polity change analysis: institutional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and domestic politics: political actors’ strate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905120" y="1333512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uropeanization research pitf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ceptual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uzzy’ methodology and causal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ck of comparative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tate of the ar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rich empirical or conceptual studies, but very limited cases of rich empirical AND conceptua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ceptu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9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eanization is not convergence nor mere EU integ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op-down and bottom-up process (i.e. construction and diffu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ocess is different from its (direct and indirect)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licy, polity and poli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eanization as a case of region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Theoret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eanization is not a theory ye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..but it builds on both neofunctionalist and intergovernmental theoretical assum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ird step in regional integration the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mpir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sure for policy chang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..but domestic differential imp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oodness of fit’: problem or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ndogenous (mediating) factors do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sures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ational polities (state structur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litics (political parties, interest groups and social move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ethodolog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fferent nature of effects (direct and indirect): ex. cost containment and social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unterfactual reasoning (looking for alternative pressures for ch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road and comparative research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sibly cover both construction and diffusion phases of th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8:43:19Z</dcterms:created>
  <dc:creator>Graziano Paolo</dc:creator>
  <dc:description/>
  <dc:language>en-US</dc:language>
  <cp:lastModifiedBy>Filippa Chatzistavrou</cp:lastModifiedBy>
  <cp:lastPrinted>2003-02-17T14:37:31Z</cp:lastPrinted>
  <dcterms:modified xsi:type="dcterms:W3CDTF">2009-01-27T12:39:37Z</dcterms:modified>
  <cp:revision>29</cp:revision>
  <dc:subject/>
  <dc:title>Comparative political economics</dc:title>
</cp:coreProperties>
</file>