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0B08-D145-4EA6-A2B0-E63B9B0D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3066-33EF-4755-81DB-64287C5F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0F9B-8973-422D-BF5A-7074DAF1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409F-E68D-4B02-998C-689B9407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E9DB-4C3F-4420-8F82-23B9F4AE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C0C3-5559-4B3F-BEEA-D692FE6F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C821-CBDE-4B22-921B-2D94E556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D545-C32F-4E1E-969A-4A383EA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E4D8-14AE-4576-BDAF-A9126B44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F5DCF-ABD9-4587-8E3D-E06CCC28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CF22-27BD-40FD-81DB-0D41474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0DCE-60A6-41FD-A624-F0634BFC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4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F2C8-1FC9-4B62-B0B7-18A633F062BB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09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4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abinet.potpredsednika@sr.gov.y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bia and the E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1148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žid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ić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puty Prime Min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rbi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lenic Foundation for European and Foreign Policy (ELIAMEP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ens, March 3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irect inve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crease in FDI has been recorded since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preliminary results FDI in 2007 were mostly greenfield ($2 b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9200" y="6080040"/>
            <a:ext cx="2905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609480" y="2666880"/>
          <a:ext cx="81630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63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1F1E-72E4-434C-B0A9-91CD260EB4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oreign debt of 57.2 % of GDP in 2007, Serbia is ranked among moderately indeb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680" y="6019920"/>
            <a:ext cx="7122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, Ministry of Finance and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6"/>
          <p:cNvGraphicFramePr/>
          <p:nvPr/>
        </p:nvGraphicFramePr>
        <p:xfrm>
          <a:off x="685800" y="2503440"/>
          <a:ext cx="784872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0344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4D13-D404-478F-9D9E-6806A003E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ebt decreased in 2006 and in 2007 fell well below Maastricht criteria (60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8480" y="6019920"/>
            <a:ext cx="2501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Ministry of Fin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5"/>
          <p:cNvGraphicFramePr/>
          <p:nvPr/>
        </p:nvGraphicFramePr>
        <p:xfrm>
          <a:off x="685800" y="2590920"/>
          <a:ext cx="7924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924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C3D8-D534-4AF6-9E43-0A11E6B254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currency reser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currency reserves reached a record level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reserves/imports of goods and services ratio was 8.3 in 2007,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200" y="6308640"/>
            <a:ext cx="2905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17400" y="2975040"/>
          <a:ext cx="791712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5040"/>
                    <a:ext cx="79171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245A-6426-4275-9828-6ED187044E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equate framewor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oing harmonization with the EU Acq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or specific legislation, property legislatio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 rate – 1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 rate – 12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-year tax holiday for large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for hiring new employ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 credit for investing in fixe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80 % of the investment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ed depr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FD8D-562B-4FF0-B190-3F2CCF5675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amework or new schemes underw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strategy, legal framework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PP law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stments in infrastructure - € 3 to 5 bil. per year (Belgrade by-pass, Highway Nis-Bulgarian border, Highway Leskovac-Pancevo and the Pancevo Bridge, Corridor X, Highway Horgos-Pozeg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y sector - €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bil. (Construction of power plants Kolubara B, TENT (700 MW) lignite fired TPP and Novi Sad cogeneration capacit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for EPS envisaged fo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ransport (Privatization of JAT Airways, JAT Tehnika, Cargo center construction, and IPO for Belgrade Airport envisaged for 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ecommunications (IPO for Telekom Srbija is envisaged for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A173-6129-4DBD-BDFD-90F2241216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!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sr-Latn-C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binet.potpredsednika@sr.gov.y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achievements in 2007 and the European Agenda fo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31DC-E099-47B6-9F20-D1B36A738C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started the SAA negotiations in October 2005 and successfully completed them in September 2007. The SAA was initialed on November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7 in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2001 Serbia has been actively working on the harmonization of its legislation with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quis communaitai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he Government is now in the final stage of preparing the National Program of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verall speed of the integration process is primarily determined by the political constel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5CD5-6A47-4115-91B4-F0C09BF583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requirements, besides the full cooperation with the ICTY, include long-term political and economic stability of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lateral declaration of independence of Kosovo has further complicated the bilateral relations between Serbia and some EU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must remain committed to its European future for it not only ensures its long-term success in all areas, but it is the best chance we have to preserve our sovereignty and territorial integrity in Kosovo and Metohi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CF42-A828-4EA3-942C-FD5176DCCB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vernment has continued Serbia’s European Integration proc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U Justice, Liberty and Security Mission identified key priorities and tasks in the process of judiciary and security reforms; the preliminary report will be presente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continued the dialogue on full visa liberalization and the third round of talks is to be held in April in Bruss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ing of new biometric Serbian passports is scheduled to commence in the end of Apr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enary session of the Enhanced Permanent Dialogue with the European Commission will be hel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PA 2007 Financing Agreement is to be signed in the beginning of April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DB1A-FF71-4E0F-9063-CA3183E98C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bia needs a clear and unequivocal support of the EU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ion of the visa liberalization process – presentation of the roadmap by the end of April and the abolishment of visa regime for Serbian citizens by the end of 2008 at the l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ng of the SAA as soon as possible – Serbia has full administrative capacities for the SAA implementation; laws needed for the implementation are awaiting ratification by the new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ing Serbia the candidate status by the end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ssistance for Serbia has been increased – current assistance under the IPA mechanism amounts to EUR 190 million annually for the period 2007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4B13-777D-44D3-B583-4B2B3F3F1B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th is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verage growth for 2001 – 2006 period is 5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611280" y="2590920"/>
          <a:ext cx="811188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90920"/>
                    <a:ext cx="8111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93360" y="6019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8E9C-E03F-418E-A6BB-846D3E18D4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rate is stabilizing aft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in 2007 was result of supply side shocks: oil price, drou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8"/>
          <p:cNvGraphicFramePr/>
          <p:nvPr/>
        </p:nvGraphicFramePr>
        <p:xfrm>
          <a:off x="685800" y="266688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8120" y="6232680"/>
            <a:ext cx="296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2101-2149-4FA8-99D7-10E1C4CBAC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tra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growth rates are among the highest within the transit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trade deficit amounts to € 6.9 bil. in 2007 (22.8% of GDP) due to huge imports of capital and intermediate goods (€ 8.3 bi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692280" y="2895480"/>
          <a:ext cx="79167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895480"/>
                    <a:ext cx="7916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01720" y="6248520"/>
            <a:ext cx="194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UNC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033A-4EDF-41A5-8E60-022C2CDFED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08:26Z</dcterms:created>
  <dc:creator>jelena</dc:creator>
  <dc:description/>
  <dc:language>en-US</dc:language>
  <cp:lastModifiedBy>re1</cp:lastModifiedBy>
  <dcterms:modified xsi:type="dcterms:W3CDTF">2008-04-01T08:30:53Z</dcterms:modified>
  <cp:revision>71</cp:revision>
  <dc:subject/>
  <dc:title>Republic of Serbia Economic Overview</dc:title>
</cp:coreProperties>
</file>