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C945-6335-4713-966E-EE8701FB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EF1B-00B8-49E5-9F2C-4637CCF0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F698-0E31-4962-961E-65BFA818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8A16-5963-45AB-AF68-275E1967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12D0-8043-49F3-B283-AF32E31A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FA47-948C-4E0D-888B-A97AB974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54E8-FA26-4639-9863-1F98DB0C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D108-8F27-4974-B771-97BF4B1D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4E8A-18F5-418A-A249-DB7B3EA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49E9-DA66-4B3A-AC49-13EF9B6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3B93-11D7-4F1D-BA44-DCA2A881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B3E7-C22D-423D-BA06-4CFC5D9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4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7ABA-AD2B-4C1B-B5E3-476E581FD7F6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09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4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kabinet.potpredsednika@sr.gov.yu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bia and the E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41148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žid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lić</a:t>
            </a:r>
            <a:br>
              <a:rPr sz="24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eputy Prime Mini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rbia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lenic Foundation for European and Foreign Policy (ELIAMEP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hens, March 3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irect invest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ncrease in FDI has been recorded since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preliminary results FDI in 2007 were mostly greenfield ($2 b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9200" y="6080040"/>
            <a:ext cx="2905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609480" y="2666880"/>
          <a:ext cx="81630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163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E4D9-FCB9-4EAB-A937-75516F80DF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oreign debt of 57.2 % of GDP in 2007, Serbia is ranked among moderately indeb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7680" y="6019920"/>
            <a:ext cx="7122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, Ministry of Finance and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6"/>
          <p:cNvGraphicFramePr/>
          <p:nvPr/>
        </p:nvGraphicFramePr>
        <p:xfrm>
          <a:off x="685800" y="2503440"/>
          <a:ext cx="7848720" cy="35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03440"/>
                    <a:ext cx="7848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1C2B-8096-4464-B7D1-627151B5B0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blic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ebt decreased in 2006 and in 2007 fell well below Maastricht criteria (60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8480" y="6019920"/>
            <a:ext cx="2501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Ministry of Fin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5"/>
          <p:cNvGraphicFramePr/>
          <p:nvPr/>
        </p:nvGraphicFramePr>
        <p:xfrm>
          <a:off x="685800" y="2590920"/>
          <a:ext cx="7924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924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1954-9514-4769-AD55-8D090FC7D8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currency reser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currency reserves reached a record level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reserves/imports of goods and services ratio was 8.3 in 2007,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9200" y="6308640"/>
            <a:ext cx="2905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17400" y="2975040"/>
          <a:ext cx="7917120" cy="34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75040"/>
                    <a:ext cx="791712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2DCE-5427-470F-9C1A-4B652D66DE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equate framewor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oing harmonization with the EU Acq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or specific legislation, property legislatio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income tax rate – 1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income tax rate – 12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-year tax holiday for large 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for hiring new employe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 credit for investing in fixe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80 % of the investment am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ed depre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90FA-AD56-427B-AEA9-FE85175EB4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ramework or new schemes underw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strategy, legal framework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PP law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stments in infrastructure - € 3 to 5 bil. per year (Belgrade by-pass, Highway Nis-Bulgarian border, Highway Leskovac-Pancevo and the Pancevo Bridge, Corridor X, Highway Horgos-Pozeg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ergy sector - €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bil. (Construction of power plants Kolubara B, TENT (700 MW) lignite fired TPP and Novi Sad cogeneration capacity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for EPS envisaged for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ransport (Privatization of JAT Airways, JAT Tehnika, Cargo center construction, and IPO for Belgrade Airport envisaged for 200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lecommunications (IPO for Telekom Srbija is envisaged for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F47B-179D-4589-A27D-379B3512CA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!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sr-Latn-C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binet.potpredsednika@sr.gov.y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achievements in 2007 and the European Agenda fo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A557-D742-43D0-8134-1007EE65FB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started the SAA negotiations in October 2005 and successfully completed them in September 2007. The SAA was initialed on November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7 in Bru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2001 Serbia has been actively working on the harmonization of its legislation with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quis communaitai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The Government is now in the final stage of preparing the National Program of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verall speed of the integration process is primarily determined by the political constel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3288-C28C-4C7E-95AB-87E70343D0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requirements, besides the full cooperation with the ICTY, include long-term political and economic stability of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ilateral declaration of independence of Kosovo has further complicated the bilateral relations between Serbia and some EU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must remain committed to its European future for it not only ensures its long-term success in all areas, but it is the best chance we have to preserve our sovereignty and territorial integrity in Kosovo and Metohi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3C4E-21D0-46E7-80C9-7D2B227174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vernment has continued Serbia’s European Integration proc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U Justice, Liberty and Security Mission identified key priorities and tasks in the process of judiciary and security reforms; the preliminary report will be presente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continued the dialogue on full visa liberalization and the third round of talks is to be held in April in Bruss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ing of new biometric Serbian passports is scheduled to commence in the end of Apr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enary session of the Enhanced Permanent Dialogue with the European Commission will be hel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PA 2007 Financing Agreement is to be signed in the beginning of April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E600-0884-4D42-8D19-F3FDC5EC7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rbia needs a clear and unequivocal support of the EU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ion of the visa liberalization process – presentation of the roadmap by the end of April and the abolishment of visa regime for Serbian citizens by the end of 2008 at the la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ng of the SAA as soon as possible – Serbia has full administrative capacities for the SAA implementation; laws needed for the implementation are awaiting ratification by the new Parli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ing Serbia the candidate status by the end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assistance for Serbia has been increased – current assistance under the IPA mechanism amounts to EUR 190 million annually for the period 2007-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1736-1A34-43CB-97F8-889BE84150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growth is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verage growth for 2001 – 2006 period is 5.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611280" y="2590920"/>
          <a:ext cx="811188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90920"/>
                    <a:ext cx="8111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93360" y="6019920"/>
            <a:ext cx="296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533A-CDFB-44E8-9392-F57CB776B7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rate is stabilizing aft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in 2007 was result of supply side shocks: oil price, drou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8"/>
          <p:cNvGraphicFramePr/>
          <p:nvPr/>
        </p:nvGraphicFramePr>
        <p:xfrm>
          <a:off x="685800" y="2666880"/>
          <a:ext cx="8001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8001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28120" y="6232680"/>
            <a:ext cx="296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67FA-0C29-4A2F-BCFD-A806D7C47C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tra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growth rates are among the highest within the transitio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trade deficit amounts to € 6.9 bil. in 2007 (22.8% of GDP) due to huge imports of capital and intermediate goods (€ 8.3 bil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692280" y="2895480"/>
          <a:ext cx="79167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895480"/>
                    <a:ext cx="79167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01720" y="6248520"/>
            <a:ext cx="194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UNCT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553D-525B-4F9B-93D2-F9E0F4F621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08:26Z</dcterms:created>
  <dc:creator>jelena</dc:creator>
  <dc:description/>
  <dc:language>en-US</dc:language>
  <cp:lastModifiedBy>re1</cp:lastModifiedBy>
  <dcterms:modified xsi:type="dcterms:W3CDTF">2008-04-01T08:30:53Z</dcterms:modified>
  <cp:revision>71</cp:revision>
  <dc:subject/>
  <dc:title>Republic of Serbia Economic Overview</dc:title>
</cp:coreProperties>
</file>