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DE03-49AC-436A-A0A9-5F0A3D97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81D1-BE6B-4BC1-A13C-0E0342C6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F5D8-9D2E-4B34-A33B-00F5BF8D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C562-179F-4D94-BC8A-549CF257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040B5-683F-4F66-B733-A584097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3452-6F87-4F33-A101-411E35E5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2AF7-7CB6-4DAC-9705-4AA8797B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4424-7975-4D1B-9453-599E15F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6F07-6114-4C78-BA96-F63E15F9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9914-1DD8-4DB6-8D74-BD7659B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DC57-4AAF-409A-A56F-F7F2C163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04FA-61B8-473E-BE66-D6DFE040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4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428D-C39D-42B4-BAAE-1E925965E394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09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94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kabinet.potpredsednika@sr.gov.yu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bia and the E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41148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žid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lić</a:t>
            </a:r>
            <a:br>
              <a:rPr sz="24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eputy Prime Minis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rbia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lenic Foundation for European and Foreign Policy (ELIAMEP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hens, March 3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irect invest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increase in FDI has been recorded since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preliminary results FDI in 2007 were mostly greenfield ($2 bi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9200" y="6080040"/>
            <a:ext cx="2905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609480" y="2666880"/>
          <a:ext cx="81630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163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1B77-54FF-41F9-A44C-ACFDF20056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oreign debt of 57.2 % of GDP in 2007, Serbia is ranked among moderately indeb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7680" y="6019920"/>
            <a:ext cx="7122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, Ministry of Finance and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6"/>
          <p:cNvGraphicFramePr/>
          <p:nvPr/>
        </p:nvGraphicFramePr>
        <p:xfrm>
          <a:off x="685800" y="2503440"/>
          <a:ext cx="7848720" cy="35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03440"/>
                    <a:ext cx="78487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354C-C77C-4F30-B6F1-8142C98459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blic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ebt decreased in 2006 and in 2007 fell well below Maastricht criteria (60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8480" y="6019920"/>
            <a:ext cx="2501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Ministry of Fin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5"/>
          <p:cNvGraphicFramePr/>
          <p:nvPr/>
        </p:nvGraphicFramePr>
        <p:xfrm>
          <a:off x="685800" y="2590920"/>
          <a:ext cx="7924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924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6B8B-B6F7-4535-B114-0086C5126C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currency reser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currency reserves reached a record level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reserves/imports of goods and services ratio was 8.3 in 2007,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9200" y="6308640"/>
            <a:ext cx="2905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17400" y="2975040"/>
          <a:ext cx="7917120" cy="34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975040"/>
                    <a:ext cx="791712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B0E2-7544-43A4-A96B-C2D9D3EE1F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equate framewor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oing harmonization with the EU Acqu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or specific legislation, property legislatio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income tax rate – 1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income tax rate – 12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-year tax holiday for large 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es for hiring new employe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x credit for investing in fixed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80 % of the investment am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ed depre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91DB-207D-4E84-BA1A-246FE2F19B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ramework or new schemes underw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strategy, legal framework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PP law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stments in infrastructure - € 3 to 5 bil. per year (Belgrade by-pass, Highway Nis-Bulgarian border, Highway Leskovac-Pancevo and the Pancevo Bridge, Corridor X, Highway Horgos-Pozeg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ergy sector - €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bil. (Construction of power plants Kolubara B, TENT (700 MW) lignite fired TPP and Novi Sad cogeneration capacity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for EPS envisaged for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ransport (Privatization of JAT Airways, JAT Tehnika, Cargo center construction, and IPO for Belgrade Airport envisaged for 200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lecommunications (IPO for Telekom Srbija is envisaged for 20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53C6-FABE-4912-8D94-CD341A4C4F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!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lang="sr-Latn-C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binet.potpredsednika@sr.gov.y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achievements in 2007 and the European Agenda fo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28E3-0992-4A6C-A95E-11049D3B39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started the SAA negotiations in October 2005 and successfully completed them in September 2007. The SAA was initialed on November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7 in Bru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2001 Serbia has been actively working on the harmonization of its legislation with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quis communaitai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The Government is now in the final stage of preparing the National Program of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verall speed of the integration process is primarily determined by the political constel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13D2-1634-41FD-AF45-D3DDE5A1BB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5905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requirements, besides the full cooperation with the ICTY, include long-term political and economic stability of th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ilateral declaration of independence of Kosovo has further complicated the bilateral relations between Serbia and some EU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must remain committed to its European future for it not only ensures its long-term success in all areas, but it is the best chance we have to preserve our sovereignty and territorial integrity in Kosovo and Metohi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684A-D42E-4B2B-B719-D5B2A7106F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vernment has continued Serbia’s European Integration proc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U Justice, Liberty and Security Mission identified key priorities and tasks in the process of judiciary and security reforms; the preliminary report will be presente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continued the dialogue on full visa liberalization and the third round of talks is to be held in April in Bruss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ssuing of new biometric Serbian passports is scheduled to commence in the end of Apr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enary session of the Enhanced Permanent Dialogue with the European Commission will be hel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PA 2007 Financing Agreement is to be signed in the beginning of April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E209-1E42-416A-9C0E-63876F37E4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rbia needs a clear and unequivocal support of the EU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ion of the visa liberalization process – presentation of the roadmap by the end of April and the abolishment of visa regime for Serbian citizens by the end of 2008 at the la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ng of the SAA as soon as possible – Serbia has full administrative capacities for the SAA implementation; laws needed for the implementation are awaiting ratification by the new Parlia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ing Serbia the candidate status by the end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assistance for Serbia has been increased – current assistance under the IPA mechanism amounts to EUR 190 million annually for the period 2007-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8DFD-D042-4895-A782-3665C0105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growth is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verage growth for 2001 – 2006 period is 5.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611280" y="2590920"/>
          <a:ext cx="811188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90920"/>
                    <a:ext cx="8111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93360" y="6019920"/>
            <a:ext cx="296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33E1-F582-4E95-A8BC-E2CEBD706B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rate is stabilizing aft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in 2007 was result of supply side shocks: oil price, droug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8"/>
          <p:cNvGraphicFramePr/>
          <p:nvPr/>
        </p:nvGraphicFramePr>
        <p:xfrm>
          <a:off x="685800" y="2666880"/>
          <a:ext cx="8001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8001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28120" y="6232680"/>
            <a:ext cx="296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29EF-A385-4BA8-A34B-CB7CFF2BA9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tra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growth rates are among the highest within the transitio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trade deficit amounts to € 6.9 bil. in 2007 (22.8% of GDP) due to huge imports of capital and intermediate goods (€ 8.3 bil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692280" y="2895480"/>
          <a:ext cx="79167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895480"/>
                    <a:ext cx="79167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801720" y="6248520"/>
            <a:ext cx="1941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UNCT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9149-629E-43DB-8B64-D7F5A41F35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8:08:26Z</dcterms:created>
  <dc:creator>jelena</dc:creator>
  <dc:description/>
  <dc:language>en-US</dc:language>
  <cp:lastModifiedBy>re1</cp:lastModifiedBy>
  <dcterms:modified xsi:type="dcterms:W3CDTF">2008-04-01T08:30:53Z</dcterms:modified>
  <cp:revision>71</cp:revision>
  <dc:subject/>
  <dc:title>Republic of Serbia Economic Overview</dc:title>
</cp:coreProperties>
</file>