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62E6-E317-43F2-98B7-841C5489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B41B-4E53-4F08-9115-D1FDEEED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5123-3410-475C-AB21-7FB88B32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D0EB-857B-40F7-AF6B-B7EB7D8F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A2E0-C673-42A1-9F35-237F71B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CA57-1909-4C21-B08E-CFF684A6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6A2B-A3DC-4F48-8D49-4A8ADAD2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321B-3A1C-42F3-B4CD-DF61844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63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CBC8-91F5-4D23-9763-9BA17A4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D4C6-44C7-4564-96BE-94BCD88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FB61-21E5-4468-A218-5F0AE8A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88A8-2DE7-43B0-8727-135C9D4B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4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7689-784B-49EA-B7C2-9A0735C5B985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09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6320" y="6609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95480" y="6552720"/>
            <a:ext cx="3353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nomy and Finance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4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overnment of the Republic of Serbia – Office of the Deputy Prime Min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binet.potpredsednika@sr.gov.yu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bia and the E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žid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lić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eputy Prime Min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rbia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lenic Foundation for European and Foreign Policy (ELIAMEP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ens, March 3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irect inve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ncrease in FDI has been recorded since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preliminary results FDI in 2007 were mostly greenfield ($2 bi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9200" y="6080040"/>
            <a:ext cx="290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609480" y="2666880"/>
          <a:ext cx="8163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63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8F2B-D874-4291-97ED-1FDD723EB3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oreign debt of 57.2 % of GDP in 2007, Serbia is ranked among moderately indeb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7680" y="6019920"/>
            <a:ext cx="7122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, Ministry of Finance and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6"/>
          <p:cNvGraphicFramePr/>
          <p:nvPr/>
        </p:nvGraphicFramePr>
        <p:xfrm>
          <a:off x="685800" y="2503440"/>
          <a:ext cx="784872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03440"/>
                    <a:ext cx="7848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031E-2FF7-491D-B1A6-BBD3409193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ebt decreased in 2006 and in 2007 fell well below Maastricht criteria (60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8480" y="6019920"/>
            <a:ext cx="2501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Ministry of Fin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5"/>
          <p:cNvGraphicFramePr/>
          <p:nvPr/>
        </p:nvGraphicFramePr>
        <p:xfrm>
          <a:off x="685800" y="2590920"/>
          <a:ext cx="7924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924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81EF-9498-4894-A89F-356F0B0CDE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currency reser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currency reserves reached a record level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reserves/imports of goods and services ratio was 8.3 in 2007,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9200" y="6308640"/>
            <a:ext cx="2905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Bank of Serb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17400" y="2975040"/>
          <a:ext cx="791712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5040"/>
                    <a:ext cx="791712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B1EA-AA62-4D28-9A78-3319DEA6E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equate framewor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oing harmonization with the EU Acq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or specific legislation, property legislatio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 rate – 1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 rate – 12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-year tax holiday for large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idies for hiring new employe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 credit for investing in fixe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80 % of the investment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ed depre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00A0-FA60-458E-834F-DAB6022CE7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amework or new schemes underw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strategy, legal framework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PP law and pilot projects envisaged for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stments in infrastructure - € 3 to 5 bil. per year (Belgrade by-pass, Highway Nis-Bulgarian border, Highway Leskovac-Pancevo and the Pancevo Bridge, Corridor X, Highway Horgos-Pozeg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y sector - €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bil. (Construction of power plants Kolubara B, TENT (700 MW) lignite fired TPP and Novi Sad cogeneration capacit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 for EPS envisaged for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ransport (Privatization of JAT Airways, JAT Tehnika, Cargo center construction, and IPO for Belgrade Airport envisaged for 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lecommunications (IPO for Telekom Srbija is envisaged for 20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33CE-2D30-4799-8D6E-516FC490D4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!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sr-Latn-C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binet.potpredsednika@sr.gov.y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achievements in 2007 and the European Agenda fo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opportunities in strategic s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D4C8-9D16-48C9-90F4-A7B0035D2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started the SAA negotiations in October 2005 and successfully completed them in September 2007. The SAA was initialed on November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2007 in Bru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2001 Serbia has been actively working on the harmonization of its legislation with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cquis communaitai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The Government is now in the final stage of preparing the National Program of 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verall speed of the integration process is primarily determined by the political constel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2B2F-194B-4591-B94B-AEF9EA223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European Integration process has been the major challenge for Serbia since 200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5905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requirements, besides the full cooperation with the ICTY, include long-term political and economic stability of th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lateral declaration of independence of Kosovo has further complicated the bilateral relations between Serbia and some EU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must remain committed to its European future for it not only ensures its long-term success in all areas, but it is the best chance we have to preserve our sovereignty and territorial integrity in Kosovo and Metohi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9240" y="17413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A339-F94D-40F8-99D9-AF352DD0E6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vernment has continued Serbia’s European Integration proc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U Justice, Liberty and Security Mission identified key priorities and tasks in the process of judiciary and security reforms; the preliminary report will be presente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bia continued the dialogue on full visa liberalization and the third round of talks is to be held in April in Bruss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ssuing of new biometric Serbian passports is scheduled to commence in the end of Apr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enary session of the Enhanced Permanent Dialogue with the European Commission will be held on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Bel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PA 2007 Financing Agreement is to be signed in the beginning of April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C56D-4101-4DF6-8209-ABE701ED16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bia needs a clear and unequivocal support of the EU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leration of the visa liberalization process – presentation of the roadmap by the end of April and the abolishment of visa regime for Serbian citizens by the end of 2008 at the la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ng of the SAA as soon as possible – Serbia has full administrative capacities for the SAA implementation; laws needed for the implementation are awaiting ratification by the new Parli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ing Serbia the candidate status by the end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assistance for Serbia has been increased – current assistance under the IPA mechanism amounts to EUR 190 million annually for the period 2007-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238E-8904-4925-9DBA-28285B03F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P growth is the highest in th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verage growth for 2001 – 2006 period is 5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611280" y="2590920"/>
          <a:ext cx="811188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90920"/>
                    <a:ext cx="8111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93360" y="6019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Esti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1207-8B51-44D3-947F-92D009BF1C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rate is stabilizing after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lation in 2007 was result of supply side shocks: oil price, drou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8"/>
          <p:cNvGraphicFramePr/>
          <p:nvPr/>
        </p:nvGraphicFramePr>
        <p:xfrm>
          <a:off x="685800" y="2666880"/>
          <a:ext cx="8001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8120" y="6232680"/>
            <a:ext cx="296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National Statistics Off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B9E2-8594-4E20-8109-20A67CA31A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croeconomic stability and grow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eign tra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 growth rates are among the highest within the transitio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trade deficit amounts to € 6.9 bil. in 2007 (22.8% of GDP) due to huge imports of capital and intermediate goods (€ 8.3 bil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692280" y="2895480"/>
          <a:ext cx="7916760" cy="36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895480"/>
                    <a:ext cx="7916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01720" y="6248520"/>
            <a:ext cx="19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: UNCT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7FE9-9FB0-49E0-93D0-61E26134CE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8:08:26Z</dcterms:created>
  <dc:creator>jelena</dc:creator>
  <dc:description/>
  <dc:language>en-US</dc:language>
  <cp:lastModifiedBy>re1</cp:lastModifiedBy>
  <dcterms:modified xsi:type="dcterms:W3CDTF">2008-04-01T08:30:53Z</dcterms:modified>
  <cp:revision>71</cp:revision>
  <dc:subject/>
  <dc:title>Republic of Serbia Economic Overview</dc:title>
</cp:coreProperties>
</file>