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437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9D661-7BBB-4947-A561-3994A836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50301-4320-4E8A-97C0-FFC53F1A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5A70E-EE65-4055-87F8-5FA98E83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1DF1-6C92-48B9-8154-60F986FC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636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8B740-4229-4D86-A969-8FD6ACF5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03E89-C85E-4440-B544-492C8A69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DC0F-249B-4AF2-994D-3C49A815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827D-67D8-4341-9764-5BA0BECA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636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EDA8B-D91B-437C-928D-98D746A6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7AD18-51BE-4E63-B040-4B869F11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96355-FC15-4C77-8A9B-F15FB656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5824-7226-4432-865E-D59F9960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9810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609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4320" y="6609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AB01-7A55-4D4A-AA04-D8B9158715BF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094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Government of the Republic of Serbia – Office of the Deputy Prime Min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2895480" y="65527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nomy and Finance 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6320" y="6609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895480" y="65527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nomy and Finance 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094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Government of the Republic of Serbia – Office of the Deputy Prime Min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kabinet.potpredsednika@sr.gov.yu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bia and the E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41148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žid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j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lić</a:t>
            </a:r>
            <a:br>
              <a:rPr sz="24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eputy Prime Minis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Serbia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lenic Foundation for European and Foreign Policy (ELIAMEP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hens, March 3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direct invest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increase in FDI has been recorded since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preliminary results FDI in 2007 were mostly greenfield ($2 bi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9200" y="6080040"/>
            <a:ext cx="2905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Bank of Serb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Preliminary resul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9"/>
          <p:cNvGraphicFramePr/>
          <p:nvPr/>
        </p:nvGraphicFramePr>
        <p:xfrm>
          <a:off x="609480" y="2666880"/>
          <a:ext cx="81630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66880"/>
                    <a:ext cx="8163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21DFE-E232-4A32-AF70-3C256FD887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deb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foreign debt of 57.2 % of GDP in 2007, Serbia is ranked among moderately indebt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7680" y="6019920"/>
            <a:ext cx="7122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Bank of Serbia, Ministry of Finance and National Statistics 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Esti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16"/>
          <p:cNvGraphicFramePr/>
          <p:nvPr/>
        </p:nvGraphicFramePr>
        <p:xfrm>
          <a:off x="685800" y="2503440"/>
          <a:ext cx="7848720" cy="35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03440"/>
                    <a:ext cx="7848720" cy="35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372E8-0CC2-440C-A81B-070767B831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ublic deb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debt decreased in 2006 and in 2007 fell well below Maastricht criteria (60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8480" y="6019920"/>
            <a:ext cx="2501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Ministry of Fin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Esti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15"/>
          <p:cNvGraphicFramePr/>
          <p:nvPr/>
        </p:nvGraphicFramePr>
        <p:xfrm>
          <a:off x="685800" y="2590920"/>
          <a:ext cx="7924680" cy="35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9246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45417-ACAA-45C2-BB85-8760259BF9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currency reserv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currency reserves reached a record level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reserves/imports of goods and services ratio was 8.3 in 2007, the highest in th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9200" y="6308640"/>
            <a:ext cx="2905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Bank of Serb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7"/>
          <p:cNvGraphicFramePr/>
          <p:nvPr/>
        </p:nvGraphicFramePr>
        <p:xfrm>
          <a:off x="617400" y="2975040"/>
          <a:ext cx="7917120" cy="342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975040"/>
                    <a:ext cx="791712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0A69C-7599-41E8-9600-68C288349D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umerous opportunities in strategic sector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equate framework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going harmonization with the EU Acqu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tor specific legislation, property legislation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porate income tax rate – 1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income tax rate – 12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-year tax holiday for large invest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idies for hiring new employe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x credit for investing in fixed ass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80 % of the investment am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lerated depre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E3351-B469-42C2-AD2C-90C73724A2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umerous opportunities in strategic sector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ramework or new schemes underwa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PO strategy, legal framework and pilot projects envisaged for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PP law and pilot projects envisaged for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estments in infrastructure - € 3 to 5 bil. per year (Belgrade by-pass, Highway Nis-Bulgarian border, Highway Leskovac-Pancevo and the Pancevo Bridge, Corridor X, Highway Horgos-Pozega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ergy sector - €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 bil. (Construction of power plants Kolubara B, TENT (700 MW) lignite fired TPP and Novi Sad cogeneration capacity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PO for EPS envisaged for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Ai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ransport (Privatization of JAT Airways, JAT Tehnika, Cargo center construction, and IPO for Belgrade Airport envisaged for 200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lecommunications (IPO for Telekom Srbija is envisaged for 200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E4D40-DC84-41DB-AF4A-6C1C1AF668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 !</a:t>
            </a:r>
            <a:br>
              <a:rPr sz="2800"/>
            </a:br>
            <a:br>
              <a:rPr sz="2800"/>
            </a:br>
            <a:br>
              <a:rPr sz="2400"/>
            </a:br>
            <a:r>
              <a:rPr b="1" lang="sr-Latn-C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binet.potpredsednika@sr.gov.y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839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 achievements in 2007 and the European Agenda for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erous opportunities in strategic se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BA7E-B969-48DE-85D2-3D4A0834F8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European Integration process has been the major challenge for Serbia since 200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bia started the SAA negotiations in October 2005 and successfully completed them in September 2007. The SAA was initialed on November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2007 in Bru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2001 Serbia has been actively working on the harmonization of its legislation with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cquis communaitai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The Government is now in the final stage of preparing the National Program of Inte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verall speed of the integration process is primarily determined by the political constel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139240" y="17413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5A4B3-3919-44E2-B6B7-DE6FF3D7EA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European Integration process has been the major challenge for Serbia since 200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2590560"/>
            <a:ext cx="8839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requirements, besides the full cooperation with the ICTY, include long-term political and economic stability of the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nilateral declaration of independence of Kosovo has further complicated the bilateral relations between Serbia and some EU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bia must remain committed to its European future for it not only ensures its long-term success in all areas, but it is the best chance we have to preserve our sovereignty and territorial integrity in Kosovo and Metohij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39240" y="17413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96B3A-4E03-48CD-BA00-C4F4F32F07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overnment has continued Serbia’s European Integration proc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U Justice, Liberty and Security Mission identified key priorities and tasks in the process of judiciary and security reforms; the preliminary report will be presented on April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Belgr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bia continued the dialogue on full visa liberalization and the third round of talks is to be held in April in Bruss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ssuing of new biometric Serbian passports is scheduled to commence in the end of Apr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lenary session of the Enhanced Permanent Dialogue with the European Commission will be held on April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Belgr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PA 2007 Financing Agreement is to be signed in the beginning of April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8617D-D146-4CF6-97E3-DB0397B61A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rbia needs a clear and unequivocal support of the EU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leration of the visa liberalization process – presentation of the roadmap by the end of April and the abolishment of visa regime for Serbian citizens by the end of 2008 at the la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ing of the SAA as soon as possible – Serbia has full administrative capacities for the SAA implementation; laws needed for the implementation are awaiting ratification by the new Parlia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ting Serbia the candidate status by the end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assistance for Serbia has been increased – current assistance under the IPA mechanism amounts to EUR 190 million annually for the period 2007-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165A1-C888-4030-AB7B-75433A7BAF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growth is the highest in th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verage growth for 2001 – 2006 period is 5.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9"/>
          <p:cNvGraphicFramePr/>
          <p:nvPr/>
        </p:nvGraphicFramePr>
        <p:xfrm>
          <a:off x="611280" y="2590920"/>
          <a:ext cx="811188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590920"/>
                    <a:ext cx="8111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93360" y="6019920"/>
            <a:ext cx="296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Statistics 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Esti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15FD3-CFAE-4D86-967B-B901AA97F6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lation rate is stabilizing after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lation in 2007 was result of supply side shocks: oil price, drough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8"/>
          <p:cNvGraphicFramePr/>
          <p:nvPr/>
        </p:nvGraphicFramePr>
        <p:xfrm>
          <a:off x="685800" y="2666880"/>
          <a:ext cx="8001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8001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28120" y="6232680"/>
            <a:ext cx="296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Statistics 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31165-D29D-4369-B21A-51332B1867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tra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 growth rates are among the highest within the transitio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trade deficit amounts to € 6.9 bil. in 2007 (22.8% of GDP) due to huge imports of capital and intermediate goods (€ 8.3 bil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8"/>
          <p:cNvGraphicFramePr/>
          <p:nvPr/>
        </p:nvGraphicFramePr>
        <p:xfrm>
          <a:off x="692280" y="2895480"/>
          <a:ext cx="7916760" cy="36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895480"/>
                    <a:ext cx="791676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801720" y="6248520"/>
            <a:ext cx="1941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UNCT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70C88-F2F0-463D-9F43-7134EBDFBA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8:08:26Z</dcterms:created>
  <dc:creator>jelena</dc:creator>
  <dc:description/>
  <dc:language>en-US</dc:language>
  <cp:lastModifiedBy>re1</cp:lastModifiedBy>
  <dcterms:modified xsi:type="dcterms:W3CDTF">2008-04-01T08:30:53Z</dcterms:modified>
  <cp:revision>71</cp:revision>
  <dc:subject/>
  <dc:title>Republic of Serbia Economic Overview</dc:title>
</cp:coreProperties>
</file>